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7C0-1A1B-4C3A-9D4C-48991E63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39F-F048-4C51-8DD6-5F0C2629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735A-DC6A-4284-B7F4-A375BB6B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D1B-EE48-44B1-886E-FB50DE48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0BAD-689F-484B-8036-787A15E3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2143-CE04-4446-A14A-C39BD2B3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4EFD-F7C1-47A2-B22E-26966741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B4A8-CF04-4645-9841-5942D61F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3422-4C1E-4943-A4BD-B2653AB1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FC37-9E1E-49E8-8ABE-03F7E0B0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81B9-1186-4A8B-903F-FD682870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8EB-866A-4646-9D3D-FA125B6E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418A-F1C6-4FD4-9B73-6D8BF272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FDC0-AF5E-42B9-A3AB-73E9C310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B82B-4F05-4CCB-9A02-350463F4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D934-418D-4786-B990-99D403C9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EE06-CA59-4ABB-B5E1-1909E1F0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030-EA5A-4467-B927-1852DC24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50B9-AD4B-48C0-82CD-3B59879B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3E23-1EBA-4D54-944E-08A63D29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9DF-E161-4CF0-BF89-B2E67284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427-270D-40EC-B9C5-FE4660F4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597-F473-4650-961E-979E6653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022-0EB0-4201-85B7-B1FD12F8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9A37-D5D9-4669-AA81-66B1CDE97ABB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034E-BCBC-4684-8CED-C6A957380F8C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.wikipedia.org/wiki/Bilde:Maquina_vapor_Watt_ETSIIM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Steam_engine_in_action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DEN INDUSTRIELLE REVOLU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FORUTSET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folkningsvekst på 1700- og 18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hov for større mat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jordbruket førte til større avkas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ene i landbruket  nødvendig for   byv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Iron-forge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stahlofen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KONSEKVEN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Overbefolkede b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Miljøprobl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Dårlige hygieniske for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arde og lange arbeidsdag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Barnearbeid var vanl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rbeidsmarkedet var sterkt kjønnsd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vinnene tjente omtrent halvparten av det mennene tj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åndverkere mister sin næ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levekår for folk fl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t leve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lasseforskj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onomisk og materiell kløft mellom de vestlige landene og andre verdensdel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barn_gruver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gruve_barn"/>
          <p:cNvPicPr/>
          <p:nvPr/>
        </p:nvPicPr>
        <p:blipFill>
          <a:blip r:embed="rId1"/>
          <a:stretch/>
        </p:blipFill>
        <p:spPr>
          <a:xfrm>
            <a:off x="495360" y="20520"/>
            <a:ext cx="815328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arbeit-kinder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LudditesSmashingLoomLarge"/>
          <p:cNvPicPr/>
          <p:nvPr/>
        </p:nvPicPr>
        <p:blipFill>
          <a:blip r:embed="rId1"/>
          <a:stretch/>
        </p:blipFill>
        <p:spPr>
          <a:xfrm>
            <a:off x="1547640" y="1135080"/>
            <a:ext cx="6120000" cy="5722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MASKINSTORMERE PÅ BEGYNNELSEN AV 1800-TALL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746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REAKSJ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osialistiske beveg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rav om regulering av arbeidsfor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DEFINI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dustrialisering: Gå over fra manuelt arbeid til maskinelt arbe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spinningjenny2a"/>
          <p:cNvPicPr/>
          <p:nvPr/>
        </p:nvPicPr>
        <p:blipFill>
          <a:blip r:embed="rId1"/>
          <a:stretch/>
        </p:blipFill>
        <p:spPr>
          <a:xfrm>
            <a:off x="4716360" y="3357720"/>
            <a:ext cx="3600720" cy="292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80px-Marianne_Stokes_St_Elizabeth_of_Hungary_Spinning_for_the_Poor"/>
          <p:cNvPicPr/>
          <p:nvPr/>
        </p:nvPicPr>
        <p:blipFill>
          <a:blip r:embed="rId2"/>
          <a:stretch/>
        </p:blipFill>
        <p:spPr>
          <a:xfrm>
            <a:off x="1332000" y="2997360"/>
            <a:ext cx="2057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IDEOLOG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dam Smith (1723 – 1790): Fri konkurranse, Kapitalismens far (1723 – 17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arl Marx (1818 – 1883), kommunis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adam_smith2.jpg"/>
          <p:cNvPicPr/>
          <p:nvPr/>
        </p:nvPicPr>
        <p:blipFill>
          <a:blip r:embed="rId2"/>
          <a:stretch/>
        </p:blipFill>
        <p:spPr>
          <a:xfrm>
            <a:off x="4140360" y="1197000"/>
            <a:ext cx="27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72km1"/>
          <p:cNvPicPr/>
          <p:nvPr/>
        </p:nvPicPr>
        <p:blipFill>
          <a:blip r:embed="rId3"/>
          <a:stretch/>
        </p:blipFill>
        <p:spPr>
          <a:xfrm>
            <a:off x="6573960" y="3500280"/>
            <a:ext cx="2570040" cy="3141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apitalsystem-2"/>
          <p:cNvPicPr/>
          <p:nvPr/>
        </p:nvPicPr>
        <p:blipFill>
          <a:blip r:embed="rId1"/>
          <a:stretch/>
        </p:blipFill>
        <p:spPr>
          <a:xfrm>
            <a:off x="21128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676520" y="419040"/>
            <a:ext cx="71625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Lombardic Narrow"/>
              </a:rPr>
              <a:t>Stereotype of the Factory Owner</a:t>
            </a:r>
            <a:r>
              <a:rPr b="1" i="1" lang="en-US" sz="38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atca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2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676520" y="365040"/>
            <a:ext cx="71625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“</a:t>
            </a: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Upstairs”/“Downstairs”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apital and Labor"/>
          <p:cNvPicPr/>
          <p:nvPr/>
        </p:nvPicPr>
        <p:blipFill>
          <a:blip r:embed="rId1"/>
          <a:srcRect l="0" t="1365" r="0" b="0"/>
          <a:stretch/>
        </p:blipFill>
        <p:spPr>
          <a:xfrm>
            <a:off x="0" y="47520"/>
            <a:ext cx="9144000" cy="6764400"/>
          </a:xfrm>
          <a:prstGeom prst="rect">
            <a:avLst/>
          </a:prstGeom>
          <a:ln w="9360">
            <a:solidFill>
              <a:srgbClr val="744d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57200" y="-77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f81bd"/>
                </a:solidFill>
                <a:latin typeface="Calibri"/>
              </a:rPr>
              <a:t>Europa 18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029" descr="Europe1815GF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430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430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evolut"/>
          <p:cNvPicPr/>
          <p:nvPr/>
        </p:nvPicPr>
        <p:blipFill>
          <a:blip r:embed="rId1"/>
          <a:stretch/>
        </p:blipFill>
        <p:spPr>
          <a:xfrm>
            <a:off x="-114480" y="2049480"/>
            <a:ext cx="93729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VIRK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produksj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 av arbeidslivet og familielivet, miljøet og forholdet mellom samfunnsklasse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kommunikasjon, mulighet for konta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pact2"/>
          <p:cNvPicPr/>
          <p:nvPr/>
        </p:nvPicPr>
        <p:blipFill>
          <a:blip r:embed="rId1"/>
          <a:srcRect l="617" t="0" r="0" b="3033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23880" y="380880"/>
            <a:ext cx="7162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3300"/>
                </a:solidFill>
                <a:latin typeface="Lombardic Narrow"/>
              </a:rPr>
              <a:t>Steam Ship</a:t>
            </a:r>
            <a:r>
              <a:rPr b="1" lang="en-US" sz="39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T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750: Den industrielle revolusjonen begynner i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850: Industrien kommer for alvor til N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HVORFOR ENGLA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nnskap om tekstil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gen indre krigføring siden 16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Fristed for emigranter: nye impu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Gode veier og kysttrafik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delen ønsket å investere i indus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rbeids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Råva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Marked, indre og y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Arial Unicode MS"/>
              </a:rPr>
              <a:t>OPPST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pinne- og vevemaskin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Dampmaskinen økte vareproduksjon og omse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ll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Watts dampmas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973680"/>
            <a:ext cx="306540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28760" y="407664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Calibri"/>
              </a:rPr>
              <a:t>James Watts dampmaskin, 17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Bilde:Steam engine in ac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8353440" cy="543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9:07:11Z</dcterms:created>
  <dc:creator>"Håvard Dahle" &lt;havardd@vfk.no&gt;</dc:creator>
  <dc:description/>
  <dc:language>en-US</dc:language>
  <cp:lastModifiedBy>Vilgunn</cp:lastModifiedBy>
  <dcterms:modified xsi:type="dcterms:W3CDTF">2010-04-10T09:34:41Z</dcterms:modified>
  <cp:revision>1</cp:revision>
  <dc:subject/>
  <dc:title>DEN INDUSTRIELLE REVOLUSJON</dc:title>
</cp:coreProperties>
</file>