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gif" ContentType="image/gif"/>
  <Override PartName="/ppt/media/image10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3B98-68AF-493F-BC8B-A0A8D9EA5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307A-4E6E-4310-B0BC-25CF83AC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2B26-3A0D-471C-A08F-1E2CFCDA0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E09D-F5C0-4174-A3EB-483FE0350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A7E7-C3B0-4876-9E07-1142B2C23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AD08-EB36-4D84-B938-13CECFBD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C0A1-9747-4279-A45E-717894DC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258F-7556-428D-9034-4EADFFD0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5744-63F0-4BAB-9C78-43C32681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CF7B-B994-492B-B91B-802F8BF1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BDE5-0A1C-4C94-874F-586004D7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4E67-BEDC-4D83-A1C9-BEE22CCE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A655-D8D9-4CBC-921E-8962DC87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9DFE-15F1-4BD7-A07C-A55569B4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80CF-ECAA-45A6-88D3-7150B760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4D36-CCBE-482E-A7C0-03E5F05E6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3467-2D43-47BD-A277-608F3AC5C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A165-15FA-41D7-A9F7-A74DBAB9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66A6-8CA5-4C28-A1A6-A0813B7E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F103-EA9A-487F-9272-44F7BD22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9C20-D256-4F54-B527-5BA25D37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4FD1-9BB0-4706-B7C1-52FDE41A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73FD-59D9-4971-AD0F-6DBEC3C9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6110-0659-4303-9430-F5C1F801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9E1D-49A7-484F-A6C2-188E99EA97A4}" type="slidenum">
              <a:rPr b="0" lang="nb-N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9ABA-2035-4CB1-A98D-9B087DA6FB0E}" type="slidenum">
              <a:rPr b="0" lang="nb-N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no.wikipedia.org/wiki/Bilde:Maquina_vapor_Watt_ETSIIM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0/Steam_engine_in_action.gif" TargetMode="Externa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DEN INDUSTRIELLE REVOLUSJ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FORUTSETN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folkningsvekst på 1700- og 1800-tal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hov for større matproduksj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ffektivisering av jordbruket førte til større avkast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ndringene i landbruket  nødvendig for   byveks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Iron-forge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stahlofen"/>
          <p:cNvPicPr/>
          <p:nvPr/>
        </p:nvPicPr>
        <p:blipFill>
          <a:blip r:embed="rId1"/>
          <a:stretch/>
        </p:blipFill>
        <p:spPr>
          <a:xfrm>
            <a:off x="1946160" y="0"/>
            <a:ext cx="525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KONSEKVENS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Overbefolkede by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Miljøproble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Dårlige hygieniske forh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Harde og lange arbeidsdag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Barnearbeid var vanli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Arbeidsmarkedet var sterkt kjønnsde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Kvinnene tjente omtrent halvparten av det mennene tjen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Håndverkere mister sin næ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dre levekår for folk fl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Økt levestand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lasseforskjel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Økonomisk og materiell kløft mellom de vestlige landene og andre verdensdel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barn_gruver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gruve_barn"/>
          <p:cNvPicPr/>
          <p:nvPr/>
        </p:nvPicPr>
        <p:blipFill>
          <a:blip r:embed="rId1"/>
          <a:stretch/>
        </p:blipFill>
        <p:spPr>
          <a:xfrm>
            <a:off x="495360" y="20520"/>
            <a:ext cx="8153280" cy="68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arbeit-kinder"/>
          <p:cNvPicPr/>
          <p:nvPr/>
        </p:nvPicPr>
        <p:blipFill>
          <a:blip r:embed="rId1"/>
          <a:stretch/>
        </p:blipFill>
        <p:spPr>
          <a:xfrm>
            <a:off x="1928880" y="0"/>
            <a:ext cx="528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LudditesSmashingLoomLarge"/>
          <p:cNvPicPr/>
          <p:nvPr/>
        </p:nvPicPr>
        <p:blipFill>
          <a:blip r:embed="rId1"/>
          <a:stretch/>
        </p:blipFill>
        <p:spPr>
          <a:xfrm>
            <a:off x="1547640" y="1135080"/>
            <a:ext cx="6120000" cy="57229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000000"/>
                </a:solidFill>
                <a:latin typeface="Calibri"/>
              </a:rPr>
              <a:t>MASKINSTORMERE PÅ BEGYNNELSEN AV 1800-TALL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8920" y="746100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REAKSJON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Sosialistiske bevegel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rav om regulering av arbeidsforh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DEFINISJ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Industrialisering: Gå over fra manuelt arbeid til maskinelt arbei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spinningjenny2a"/>
          <p:cNvPicPr/>
          <p:nvPr/>
        </p:nvPicPr>
        <p:blipFill>
          <a:blip r:embed="rId1"/>
          <a:stretch/>
        </p:blipFill>
        <p:spPr>
          <a:xfrm>
            <a:off x="4716360" y="3357720"/>
            <a:ext cx="3600720" cy="2925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180px-Marianne_Stokes_St_Elizabeth_of_Hungary_Spinning_for_the_Poor"/>
          <p:cNvPicPr/>
          <p:nvPr/>
        </p:nvPicPr>
        <p:blipFill>
          <a:blip r:embed="rId2"/>
          <a:stretch/>
        </p:blipFill>
        <p:spPr>
          <a:xfrm>
            <a:off x="1332000" y="2997360"/>
            <a:ext cx="205740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IDEOLOG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Adam Smith (1723 – 1790): Fri konkurranse, Kapitalismens far (1723 – 179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Karl Marx (1818 – 1883), kommunism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48320" y="1676160"/>
            <a:ext cx="4194000" cy="4422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adam_smith2.jpg"/>
          <p:cNvPicPr/>
          <p:nvPr/>
        </p:nvPicPr>
        <p:blipFill>
          <a:blip r:embed="rId2"/>
          <a:stretch/>
        </p:blipFill>
        <p:spPr>
          <a:xfrm>
            <a:off x="4140360" y="1197000"/>
            <a:ext cx="2792160" cy="3638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72km1"/>
          <p:cNvPicPr/>
          <p:nvPr/>
        </p:nvPicPr>
        <p:blipFill>
          <a:blip r:embed="rId3"/>
          <a:stretch/>
        </p:blipFill>
        <p:spPr>
          <a:xfrm>
            <a:off x="6573960" y="3500280"/>
            <a:ext cx="2570040" cy="31417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capitalsystem-2"/>
          <p:cNvPicPr/>
          <p:nvPr/>
        </p:nvPicPr>
        <p:blipFill>
          <a:blip r:embed="rId1"/>
          <a:stretch/>
        </p:blipFill>
        <p:spPr>
          <a:xfrm>
            <a:off x="2112840" y="0"/>
            <a:ext cx="554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1676520" y="419040"/>
            <a:ext cx="7162560" cy="125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3300"/>
                </a:solidFill>
                <a:latin typeface="Lombardic Narrow"/>
              </a:rPr>
              <a:t>Stereotype of the Factory Owner</a:t>
            </a:r>
            <a:r>
              <a:rPr b="1" i="1" lang="en-US" sz="3800" spc="-1" strike="noStrike">
                <a:solidFill>
                  <a:srgbClr val="993300"/>
                </a:solidFill>
                <a:latin typeface="Lombardic Narrow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fatcat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24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676520" y="365040"/>
            <a:ext cx="7162560" cy="137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3300"/>
                </a:solidFill>
                <a:latin typeface="Lombardic Narrow"/>
                <a:ea typeface="Arial"/>
              </a:rPr>
              <a:t>“</a:t>
            </a:r>
            <a:r>
              <a:rPr b="1" lang="en-US" sz="4200" spc="-1" strike="noStrike">
                <a:solidFill>
                  <a:srgbClr val="993300"/>
                </a:solidFill>
                <a:latin typeface="Lombardic Narrow"/>
                <a:ea typeface="Arial"/>
              </a:rPr>
              <a:t>Upstairs”/“Downstairs” Lif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3" descr="Capital and Labor"/>
          <p:cNvPicPr/>
          <p:nvPr/>
        </p:nvPicPr>
        <p:blipFill>
          <a:blip r:embed="rId1"/>
          <a:srcRect l="0" t="1365" r="0" b="0"/>
          <a:stretch/>
        </p:blipFill>
        <p:spPr>
          <a:xfrm>
            <a:off x="0" y="47520"/>
            <a:ext cx="9144000" cy="6764400"/>
          </a:xfrm>
          <a:prstGeom prst="rect">
            <a:avLst/>
          </a:prstGeom>
          <a:ln w="9360">
            <a:solidFill>
              <a:srgbClr val="744d2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457200" y="-7776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4f81bd"/>
                </a:solidFill>
                <a:latin typeface="Calibri"/>
              </a:rPr>
              <a:t>Europa 18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457200" y="1522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1029" descr="Europe1815GF"/>
          <p:cNvPicPr/>
          <p:nvPr/>
        </p:nvPicPr>
        <p:blipFill>
          <a:blip r:embed="rId1"/>
          <a:stretch/>
        </p:blipFill>
        <p:spPr>
          <a:xfrm>
            <a:off x="0" y="668160"/>
            <a:ext cx="914400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4308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3430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evolut"/>
          <p:cNvPicPr/>
          <p:nvPr/>
        </p:nvPicPr>
        <p:blipFill>
          <a:blip r:embed="rId1"/>
          <a:stretch/>
        </p:blipFill>
        <p:spPr>
          <a:xfrm>
            <a:off x="-114480" y="2049480"/>
            <a:ext cx="937296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VIRKN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ffektivisering av produksjo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ndring av arbeidslivet og familielivet, miljøet og forholdet mellom samfunnsklasse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dre kommunikasjon, mulighet for kontak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impact2"/>
          <p:cNvPicPr/>
          <p:nvPr/>
        </p:nvPicPr>
        <p:blipFill>
          <a:blip r:embed="rId1"/>
          <a:srcRect l="617" t="0" r="0" b="3033"/>
          <a:stretch/>
        </p:blipFill>
        <p:spPr>
          <a:xfrm>
            <a:off x="611280" y="0"/>
            <a:ext cx="7921440" cy="68580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523880" y="380880"/>
            <a:ext cx="71629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3300"/>
                </a:solidFill>
                <a:latin typeface="Lombardic Narrow"/>
              </a:rPr>
              <a:t>Steam Ship</a:t>
            </a:r>
            <a:r>
              <a:rPr b="1" lang="en-US" sz="3900" spc="-1" strike="noStrike">
                <a:solidFill>
                  <a:srgbClr val="993300"/>
                </a:solidFill>
                <a:latin typeface="Lombardic Narrow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T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Ca. 1750: Den industrielle revolusjonen begynner i Eng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Ca. 1850: Industrien kommer for alvor til Nor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HVORFOR ENGLAN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unnskap om tekstilproduksj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Ingen indre krigføring siden 1600-tal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Fristed for emigranter: nye impul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Gode veier og kysttrafik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Adelen ønsket å investere i indust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Arbeidskr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Råvar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Marked, indre og y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800" spc="-1" strike="noStrike">
                <a:solidFill>
                  <a:srgbClr val="000000"/>
                </a:solidFill>
                <a:latin typeface="Arial Unicode MS"/>
              </a:rPr>
              <a:t>OPPSTAR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Spinne- og vevemaskin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Dampmaskinen økte vareproduksjon og omset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ullkr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Watts dampmask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3973680"/>
            <a:ext cx="3065400" cy="2282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428760" y="4076640"/>
            <a:ext cx="41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00"/>
                </a:solidFill>
                <a:latin typeface="Calibri"/>
              </a:rPr>
              <a:t>James Watts dampmaskin, 176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7" descr="Bilde:Steam engine in action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692280"/>
            <a:ext cx="8353440" cy="54356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8"/>
          <p:cNvSpPr/>
          <p:nvPr/>
        </p:nvSpPr>
        <p:spPr>
          <a:xfrm>
            <a:off x="611280" y="76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09:07:11Z</dcterms:created>
  <dc:creator>"Håvard Dahle" &lt;havardd@vfk.no&gt;</dc:creator>
  <dc:description/>
  <dc:language>en-US</dc:language>
  <cp:lastModifiedBy>Vilgunn</cp:lastModifiedBy>
  <dcterms:modified xsi:type="dcterms:W3CDTF">2010-04-10T09:34:41Z</dcterms:modified>
  <cp:revision>1</cp:revision>
  <dc:subject/>
  <dc:title>DEN INDUSTRIELLE REVOLUSJON</dc:title>
</cp:coreProperties>
</file>